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5F2D-6E91-4C93-AA2A-93C607692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7A11-06C2-4307-AF67-7F454B258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6672-C195-42C5-A50E-78A9AB82A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FB6C-F787-48B2-A19A-B06F72A1B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9525-7DDA-4427-8F2E-22E356F7D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8972-DF37-481D-82E7-80152362D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97E0-6559-4976-8D30-EBF41341A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B8DF-ABEF-4B44-A465-3536AE37E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F177-C001-4E96-A050-9DA8674F6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A7F8-3F9A-43B6-981E-99C9929D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8287-1E77-43A7-93CC-57EE259C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07F4-B310-499A-BD8F-1C8F0F9D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DA19D-A92A-43AF-A48C-F2C73FD9B38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59275-9812-4CDD-880A-20705E3EA6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B S 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43828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ufklärung tut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RIFF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NNZEICH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Buddenkuh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5AA5-23E8-4C8F-A277-730D5DE6C15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9ABFAF-CC0C-482E-8460-B6DB381319F5}" type="datetime1">
              <a:rPr lang="en-US"/>
              <a:t>07/28/26</a:t>
            </a:fld>
          </a:p>
        </p:txBody>
      </p:sp>
    </p:spTree>
  </p:cSld>
  <p:transition spd="med" advTm="2000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 - Adressen zu B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2209680"/>
            <a:ext cx="89154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atenbank für Rinder: </a:t>
            </a:r>
            <a:r>
              <a:rPr b="1" lang="de-DE" sz="2000" spc="-1" strike="noStrike" u="sng">
                <a:solidFill>
                  <a:srgbClr val="ff0000"/>
                </a:solidFill>
                <a:uFillTx/>
                <a:latin typeface="Times New Roman"/>
              </a:rPr>
              <a:t>www.Hi-Tier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Zentrale Marketing-Gesellschaft der deutschen Agrarwirtschaft:  </a:t>
            </a:r>
            <a:r>
              <a:rPr b="0" lang="de-DE" sz="2000" spc="-1" strike="noStrike" u="sng">
                <a:solidFill>
                  <a:srgbClr val="ff0000"/>
                </a:solidFill>
                <a:uFillTx/>
                <a:latin typeface="Times New Roman"/>
              </a:rPr>
              <a:t>www</a:t>
            </a:r>
            <a:r>
              <a:rPr b="0" lang="de-DE" sz="2000" spc="-1" strike="noStrike" u="sng">
                <a:solidFill>
                  <a:srgbClr val="ff0000"/>
                </a:solidFill>
                <a:uFillTx/>
                <a:latin typeface="Times New Roman"/>
              </a:rPr>
              <a:t>.cma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eutscher Bauernverband: </a:t>
            </a:r>
            <a:r>
              <a:rPr b="0" lang="de-DE" sz="2000" spc="-1" strike="noStrike" u="sng">
                <a:solidFill>
                  <a:srgbClr val="ff0000"/>
                </a:solidFill>
                <a:uFillTx/>
                <a:latin typeface="Times New Roman"/>
              </a:rPr>
              <a:t>www.bauernverband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Bundesministerium Verbraucherschutz und Landwirtschaft: </a:t>
            </a:r>
            <a:r>
              <a:rPr b="0" lang="de-DE" sz="2000" spc="-1" strike="noStrike" u="sng">
                <a:solidFill>
                  <a:srgbClr val="ff0000"/>
                </a:solidFill>
                <a:uFillTx/>
                <a:latin typeface="Times New Roman"/>
              </a:rPr>
              <a:t>www.bml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Bundesforschungsanstalt für Fleischforschung(BAFF): </a:t>
            </a:r>
            <a:r>
              <a:rPr b="0" lang="de-DE" sz="2000" spc="-1" strike="noStrike" u="sng">
                <a:solidFill>
                  <a:srgbClr val="ff0000"/>
                </a:solidFill>
                <a:uFillTx/>
                <a:latin typeface="Times New Roman"/>
              </a:rPr>
              <a:t>www.dainet.de/b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Bundesforschungsanstalt für Viruserkrankungen bei Tieren: </a:t>
            </a:r>
            <a:r>
              <a:rPr b="1" lang="de-DE" sz="2000" spc="-1" strike="noStrike" u="sng">
                <a:solidFill>
                  <a:srgbClr val="ff0000"/>
                </a:solidFill>
                <a:uFillTx/>
                <a:latin typeface="Times New Roman"/>
              </a:rPr>
              <a:t>www.dainet.de.bfa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Rechtsvorschriften zu BSE: </a:t>
            </a:r>
            <a:r>
              <a:rPr b="0" lang="de-DE" sz="2000" spc="-1" strike="noStrike" u="sng">
                <a:solidFill>
                  <a:srgbClr val="ff0000"/>
                </a:solidFill>
                <a:uFillTx/>
                <a:latin typeface="Times New Roman"/>
              </a:rPr>
              <a:t>www.europa.eu.int/comm/food/fs/bse/19_de.</a:t>
            </a:r>
            <a:r>
              <a:rPr b="0" lang="de-DE" sz="2000" spc="-1" strike="noStrike" u="sng">
                <a:solidFill>
                  <a:srgbClr val="ff0000"/>
                </a:solidFill>
                <a:uFillTx/>
                <a:latin typeface="Times New Roman"/>
              </a:rPr>
              <a:t>html</a:t>
            </a:r>
            <a:r>
              <a:rPr b="1" lang="de-DE" sz="2000" spc="-1" strike="noStrike" u="sng">
                <a:solidFill>
                  <a:srgbClr val="ff33cc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Zeitschriften: Focus : </a:t>
            </a:r>
            <a:r>
              <a:rPr b="0" lang="de-DE" sz="2000" spc="-1" strike="noStrike" u="sng">
                <a:solidFill>
                  <a:srgbClr val="ff0000"/>
                </a:solidFill>
                <a:uFillTx/>
                <a:latin typeface="Times New Roman"/>
              </a:rPr>
              <a:t>www.focus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Spiegel: </a:t>
            </a:r>
            <a:r>
              <a:rPr b="1" lang="de-DE" sz="2000" spc="-1" strike="noStrike" u="sng">
                <a:solidFill>
                  <a:srgbClr val="ff33cc"/>
                </a:solidFill>
                <a:uFillTx/>
                <a:latin typeface="Times New Roman"/>
              </a:rPr>
              <a:t> </a:t>
            </a:r>
            <a:r>
              <a:rPr b="0" lang="de-DE" sz="2000" spc="-1" strike="noStrike" u="sng">
                <a:solidFill>
                  <a:srgbClr val="ff0000"/>
                </a:solidFill>
                <a:uFillTx/>
                <a:latin typeface="Times New Roman"/>
              </a:rPr>
              <a:t>www.spiegel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op agrar: </a:t>
            </a:r>
            <a:r>
              <a:rPr b="1" lang="de-DE" sz="2000" spc="-1" strike="noStrike" u="sng">
                <a:solidFill>
                  <a:srgbClr val="ff0000"/>
                </a:solidFill>
                <a:uFillTx/>
                <a:latin typeface="Times New Roman"/>
              </a:rPr>
              <a:t>www.topagrar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Buddenkuh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327E-7A89-4693-AE26-0FBD42B3667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F60D77-7860-4C2B-A474-B2E11B9EC027}" type="datetime1">
              <a:rPr lang="en-US"/>
              <a:t>07/28/26</a:t>
            </a:fld>
          </a:p>
        </p:txBody>
      </p:sp>
    </p:spTree>
  </p:cSld>
  <p:transition spd="med" advTm="21000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Times New Roman"/>
              </a:rPr>
              <a:t>Begriff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685800" y="1600200"/>
          <a:ext cx="7772400" cy="4200480"/>
        </p:xfrm>
        <a:graphic>
          <a:graphicData uri="http://schemas.openxmlformats.org/drawingml/2006/table">
            <a:tbl>
              <a:tblPr/>
              <a:tblGrid>
                <a:gridCol w="3048120"/>
                <a:gridCol w="4724280"/>
              </a:tblGrid>
              <a:tr h="974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SE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vine </a:t>
                      </a:r>
                      <a:r>
                        <a:rPr b="1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ngiforme </a:t>
                      </a:r>
                      <a:r>
                        <a:rPr b="1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zephalopath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übersetzt heißt da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wammartige Erkrankung des Gehirns bei Rinder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E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nsmissible </a:t>
                      </a:r>
                      <a:r>
                        <a:rPr b="1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ngiforme </a:t>
                      </a:r>
                      <a:r>
                        <a:rPr b="1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zephalopath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übersetzt heißt da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wammartige Erkrankung des Gehirns bei anderen Tierar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Buddenkuh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CDE7-0AA2-4283-BDB1-C0E0B7140D1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1A2411-7C0D-4739-AE8A-F0B234FF441D}" type="datetime1">
              <a:rPr lang="en-US"/>
              <a:t>07/28/26</a:t>
            </a:fld>
          </a:p>
        </p:txBody>
      </p:sp>
    </p:spTree>
  </p:cSld>
  <p:transition spd="med" advTm="17000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Times New Roman"/>
              </a:rPr>
              <a:t>Begriff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685800" y="1752480"/>
          <a:ext cx="7696080" cy="4044960"/>
        </p:xfrm>
        <a:graphic>
          <a:graphicData uri="http://schemas.openxmlformats.org/drawingml/2006/table">
            <a:tbl>
              <a:tblPr/>
              <a:tblGrid>
                <a:gridCol w="3206880"/>
                <a:gridCol w="4489200"/>
              </a:tblGrid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FJ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utzfeld-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kob-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nkhe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on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teinous infectious particle = Eiweiß( Protein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übersetzt heißt da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steckende eiweißartige Teilch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vCJK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ue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iante der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utzfeld-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kob-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nkhe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Buddenkuh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72DD-AD33-4909-B972-DB9BB8F027E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67DD6B-1B6E-44DF-8939-CFC50ACD2BD8}" type="datetime1">
              <a:rPr lang="en-US"/>
              <a:t>07/28/26</a:t>
            </a:fld>
          </a:p>
        </p:txBody>
      </p:sp>
    </p:spTree>
  </p:cSld>
  <p:transition spd="med" advTm="17000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Times New Roman"/>
              </a:rPr>
              <a:t>Begriffe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-185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uchen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5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wenn die Krankheit eines Tieres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 innerhalb eines Betriebes innerhalb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 kurzer Zeit auf alle Tiere übertragen wird.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-685800" y="4038480"/>
            <a:ext cx="982980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peratorenfleisch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Fleisch,dass direkt von den Knochen abgelöst wurde.     Es wurde zu Wurst verarbeit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Buddenkuh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2FA5-DEBD-4F5B-8505-13D185FCB38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B3912A-A977-42D0-BD71-994117BF2A9F}" type="datetime1">
              <a:rPr lang="en-US"/>
              <a:t>07/28/26</a:t>
            </a:fld>
          </a:p>
        </p:txBody>
      </p:sp>
    </p:spTree>
  </p:cSld>
  <p:transition spd="med" advTm="16000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 flipV="1">
            <a:off x="533520" y="29664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86200" y="228600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79640" y="187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70360" y="2098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228600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52388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08040" y="156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920" y="1066680"/>
            <a:ext cx="117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Bundesl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335268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Name des Züch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8720" y="4354560"/>
            <a:ext cx="99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Tierdate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6440" y="5116680"/>
            <a:ext cx="123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Ohrmarke der Mut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6095880"/>
            <a:ext cx="532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Verbindliche Unterschrift des Erzeugers,dass die Angaben stim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924680" y="182880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Times New Roman"/>
              </a:rPr>
              <a:t>Ohrmark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Times New Roman"/>
              </a:rPr>
              <a:t>des Tie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848720" y="26668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Betriebs N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7315200" y="3276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985160" y="3135240"/>
            <a:ext cx="938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Herkunf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aus d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Ausl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213040" y="4202280"/>
            <a:ext cx="939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u="sng">
                <a:solidFill>
                  <a:srgbClr val="000000"/>
                </a:solidFill>
                <a:uFillTx/>
                <a:latin typeface="Times New Roman"/>
              </a:rPr>
              <a:t>Datum 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de-DE" sz="1400" spc="-1" strike="noStrike" u="sng">
                <a:solidFill>
                  <a:srgbClr val="000000"/>
                </a:solidFill>
                <a:uFillTx/>
                <a:latin typeface="Times New Roman"/>
              </a:rPr>
              <a:t>Schlacht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u="sng">
                <a:solidFill>
                  <a:srgbClr val="000000"/>
                </a:solidFill>
                <a:uFillTx/>
                <a:latin typeface="Times New Roman"/>
              </a:rPr>
              <a:t>nachwe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7315200" y="5181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137800" y="5116680"/>
            <a:ext cx="805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Prämi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gewäh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Times New Roman"/>
              </a:rPr>
              <a:t>Begleitpap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114800" y="33526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Begleit1" descr=""/>
          <p:cNvPicPr/>
          <p:nvPr/>
        </p:nvPicPr>
        <p:blipFill>
          <a:blip r:embed="rId2"/>
          <a:stretch/>
        </p:blipFill>
        <p:spPr>
          <a:xfrm>
            <a:off x="1752480" y="1447920"/>
            <a:ext cx="5562720" cy="4735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066680" y="1371600"/>
            <a:ext cx="1219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95280" y="358128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71600" y="457200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95280" y="5486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143000" y="5867280"/>
            <a:ext cx="2362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6781320" y="4419360"/>
            <a:ext cx="1295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6781680" y="2743200"/>
            <a:ext cx="9907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6477120" y="2057400"/>
            <a:ext cx="1371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6476760" y="91440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934320" y="62064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Rinderpass N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Buddenkuh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F500-72D5-443B-990E-7DD651C5AFA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1D2504-63A7-419A-8DA0-D27F4D4941C7}" type="datetime1">
              <a:rPr lang="en-US"/>
              <a:t>07/28/26</a:t>
            </a:fld>
          </a:p>
        </p:txBody>
      </p:sp>
    </p:spTree>
  </p:cSld>
  <p:transition spd="med" advTm="14000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16765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Rückseite" descr=""/>
          <p:cNvPicPr/>
          <p:nvPr/>
        </p:nvPicPr>
        <p:blipFill>
          <a:blip r:embed="rId2">
            <a:lum contrast="-12000"/>
          </a:blip>
          <a:stretch/>
        </p:blipFill>
        <p:spPr>
          <a:xfrm>
            <a:off x="2286000" y="1371600"/>
            <a:ext cx="3409920" cy="43578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600200" y="1752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295280"/>
            <a:ext cx="2451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Name u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Adresse 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nächsten Besit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98560" y="23734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952520" y="18288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15238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Betriebsstätten N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5715000"/>
            <a:ext cx="586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66"/>
                </a:solidFill>
                <a:latin typeface="Times New Roman"/>
              </a:rPr>
              <a:t>Jeder Besitzerwechsel muss innerhalb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von 3 Tagen</a:t>
            </a:r>
            <a:r>
              <a:rPr b="1" lang="en-US" sz="1400" spc="-1" strike="noStrike">
                <a:solidFill>
                  <a:srgbClr val="66ff66"/>
                </a:solidFill>
                <a:latin typeface="Times New Roman"/>
              </a:rPr>
              <a:t> i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ff66"/>
                </a:solidFill>
                <a:latin typeface="Times New Roman"/>
              </a:rPr>
              <a:t>Bestandsverzeichnis des Betriebes angegeben werd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Times New Roman"/>
              </a:rPr>
              <a:t>Rückseite des Begleitpapi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28800" y="2133360"/>
            <a:ext cx="10666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22084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Datum des Abga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010280" y="60199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Buddenkuh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02B7-91A5-4703-86CD-ABFB621459E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2DD5DD-214F-4559-9261-32B909E1E39C}" type="datetime1">
              <a:rPr lang="en-US"/>
              <a:t>07/28/26</a:t>
            </a:fld>
          </a:p>
        </p:txBody>
      </p:sp>
    </p:spTree>
  </p:cSld>
  <p:transition spd="med" advTm="14000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0000"/>
                </a:solidFill>
                <a:uFillTx/>
                <a:latin typeface="Times New Roman"/>
              </a:rPr>
              <a:t>Bestandsverzeichnis des Betrie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55760" y="32878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12960" y="23734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1828800"/>
            <a:ext cx="142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u="sng">
                <a:solidFill>
                  <a:srgbClr val="000000"/>
                </a:solidFill>
                <a:uFillTx/>
                <a:latin typeface="Times New Roman"/>
              </a:rPr>
              <a:t>Fortlaufende N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840" y="2602080"/>
            <a:ext cx="99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0000"/>
                </a:solidFill>
                <a:uFillTx/>
                <a:latin typeface="Times New Roman"/>
              </a:rPr>
              <a:t>Ohrmark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27560" y="33638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Bestand2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1676520" y="1523880"/>
            <a:ext cx="5844960" cy="44960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01" name=""/>
          <p:cNvSpPr/>
          <p:nvPr/>
        </p:nvSpPr>
        <p:spPr>
          <a:xfrm>
            <a:off x="1143000" y="2819520"/>
            <a:ext cx="12193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95280" y="2133720"/>
            <a:ext cx="83844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9680" y="1676520"/>
            <a:ext cx="15264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71800" y="990720"/>
            <a:ext cx="213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Anschrift der Betriebsstät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038480" y="1752480"/>
            <a:ext cx="0" cy="381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27480" y="1143000"/>
            <a:ext cx="264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 u="sng">
                <a:solidFill>
                  <a:srgbClr val="000000"/>
                </a:solidFill>
                <a:uFillTx/>
                <a:latin typeface="Times New Roman"/>
              </a:rPr>
              <a:t>Unternehmer + Registrier N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72200" y="1600200"/>
            <a:ext cx="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95280" y="3886200"/>
            <a:ext cx="19051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-341280" y="3592440"/>
            <a:ext cx="194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Geburtsdat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95280" y="4952880"/>
            <a:ext cx="20574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0920" y="4800600"/>
            <a:ext cx="6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Ras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133720" y="6248520"/>
            <a:ext cx="101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Geschlec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886200" y="5486040"/>
            <a:ext cx="76320" cy="68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0" y="6400800"/>
            <a:ext cx="1298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Herkunftsl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2819520" y="5409720"/>
            <a:ext cx="838080" cy="762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495680" y="5105520"/>
            <a:ext cx="0" cy="838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43400" y="6019920"/>
            <a:ext cx="188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Ohrmarke der Mut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4800240" y="2590920"/>
            <a:ext cx="2438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542000" y="2362320"/>
            <a:ext cx="13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Zugangsdat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5409720" y="3200400"/>
            <a:ext cx="20574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232760" y="3059280"/>
            <a:ext cx="1606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Anschrift d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Vorbesit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019560" y="4191120"/>
            <a:ext cx="15238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182000" y="4049640"/>
            <a:ext cx="196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Abgangsdat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6400440" y="5105520"/>
            <a:ext cx="12193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96080" y="4952880"/>
            <a:ext cx="99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Abneh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3040" y="1001880"/>
            <a:ext cx="25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Rinder männlich oder weibli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Buddenkuh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CE33-774C-4B72-96AC-7797FDD5E1E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E2EC1E-78C4-40A2-9B31-18626C801620}" type="datetime1">
              <a:rPr lang="en-US"/>
              <a:t>07/28/26</a:t>
            </a:fld>
          </a:p>
        </p:txBody>
      </p:sp>
    </p:spTree>
  </p:cSld>
  <p:transition spd="med" advTm="14000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ierrassen Codierung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50840" y="260208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Tiercode(4)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7740360" cy="5334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495680" y="4191120"/>
            <a:ext cx="434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0000"/>
                </a:solidFill>
                <a:uFillTx/>
                <a:latin typeface="Times New Roman"/>
              </a:rPr>
              <a:t>Es gibt 99 Tierrassenkennzeich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Buddenkuh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1299-F2F2-414B-97B7-33E103440D0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2D8F0E-934E-40F6-9ADB-1E90EC732122}" type="datetime1">
              <a:rPr lang="en-US"/>
              <a:t>07/28/26</a:t>
            </a:fld>
          </a:p>
        </p:txBody>
      </p:sp>
    </p:spTree>
  </p:cSld>
  <p:transition spd="med" advTm="12000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Times New Roman"/>
              </a:rPr>
              <a:t>Hi-T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93640" y="237348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838080"/>
            <a:ext cx="83059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e Viehverkehrsverordnung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reibt vor, dass alle Rinder in Deutschland ab dem 26.09.1999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eine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entralen Datenban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rfasst werden. Diese Datenbank befindet sic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Münc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der Bauer, Händler und Schlachthof muss die Veränderungen eines Tiers hier meld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uern müssen Geburten, Zukäufe oder Verkäufe eines Tieres hie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nerhalb von 7 Tagen mel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f diese Datenbank haben Kontrollbehörden Zugriff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kann innerhalb von Minuten nachvollzogen werden, wer ein Tier produziert hat u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chen Weg es genommen ha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.B. Wird BSE in einem Betrieb festgestellt, so kann jeder Betrieb festgestellt werden, der Tiere aus diesem Betrieb gekauft oder verkauft hat oder welchen Weg das Tier nah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.Buddenkuh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9405-5280-46E3-81FA-31C6D1031D8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A2110E-D8B2-4028-9E2A-8FAF63223F59}" type="datetime1">
              <a:rPr lang="en-US"/>
              <a:t>07/28/26</a:t>
            </a:fld>
          </a:p>
        </p:txBody>
      </p:sp>
    </p:spTree>
  </p:cSld>
  <p:transition spd="med" advTm="27000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2T14:10:35Z</dcterms:created>
  <dc:creator>Silke Buddenkuhl</dc:creator>
  <dc:description/>
  <dc:language>en-US</dc:language>
  <cp:lastModifiedBy>Silke Buddenkuhl</cp:lastModifiedBy>
  <dcterms:modified xsi:type="dcterms:W3CDTF">2001-02-04T15:08:10Z</dcterms:modified>
  <cp:revision>25</cp:revision>
  <dc:subject/>
  <dc:title>BSE</dc:title>
</cp:coreProperties>
</file>